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media/image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908800" cy="9436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B8B1A1-4315-4C29-9FC2-049C459653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419076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174F77-F06E-472D-B5D8-FBB76A5CBB7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972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66ECD1-BF41-4129-9DFC-6F7E085C8C7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4640" y="15238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600" y="15238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41907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4640" y="41907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600" y="41907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82B865-C5E2-4AC8-A816-0413E8692C1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676520" y="47160"/>
            <a:ext cx="7238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91404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871D8-ACF9-4C41-91AB-B2F9225180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77972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076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914040" y="419076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91404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77972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64640" y="15238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15600" y="15238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914040" y="41907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64640" y="41907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15600" y="41907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72515D-4FA1-4276-B5A4-A7EC0CE3291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B0B126-A363-4148-B062-BEDD6F49F1C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7350A-99B8-494C-BA45-E49D321B23B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6520" y="47160"/>
            <a:ext cx="7238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C44248-34B5-4C13-B46E-171777DAE37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94478-6EE8-4494-A850-D66EBFF764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972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37CB01-DABF-49D9-B28E-1926F9C93F9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19076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01387-44D3-417D-BBF5-50E93AA77D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204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343400" y="6629040"/>
            <a:ext cx="1295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46F2C-99BB-4051-B776-E11274CF1ECD}" type="slidenum">
              <a:rPr b="0" lang="en-US" sz="9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637320"/>
            <a:ext cx="2057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© 2004 Mercury Computer Systems, Inc.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80720" y="2514240"/>
            <a:ext cx="67820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7114320" y="6643800"/>
            <a:ext cx="203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© 2004 Mercury Computer Systems, Inc.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1. Security: the problems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73120" y="876240"/>
            <a:ext cx="799632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pparent contradiction between separation and aggregation of red/black data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Assumption that each classified signal needs a dedicated HW/SW path, wastes processing resourc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st of mediation/verification of each process access to each resource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ftware radio becomes hard at crypto boundary - limits SW part of SWRadi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ltiple disconnected investigations of MILS related CORBA architecture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1. Security: what we have done</a:t>
            </a:r>
            <a:endParaRPr b="1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ponsored an investigation for near and longer term solutions for JTRS compliant Crypto/Security subsystem by combining the Castellan/Aeronix CSS approach with processor pooling.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Near term: define how black pool is flexibly separated from red processing by CSS, while preserving COTS commonality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Longer term: define how MILS and certifiable fabrics can be used to implement a fully soft and scalable CSS as an “application” in the (single) pool.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Apply latest EKMS related functionality, crypto-modernization efforts, JTRS, and HAIPES required functionality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Features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Isolation of red/black data on fabric in movable locations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eparate data and control paths 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66"/>
                </a:solidFill>
                <a:latin typeface="Arial"/>
              </a:rPr>
              <a:t>SCA Security Supplement primitives can run on-board</a:t>
            </a:r>
            <a:endParaRPr b="1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327320" y="828720"/>
            <a:ext cx="7575480" cy="69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 Black"/>
              </a:rPr>
              <a:t>Foundation for Secure POP Existence Proof, Reference Architecture</a:t>
            </a:r>
            <a:endParaRPr b="0" lang="en-US" sz="2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676520" y="23760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66"/>
                </a:solidFill>
                <a:latin typeface="Arial"/>
              </a:rPr>
              <a:t>1. Fabric with Physical Red/Black Isolation and Logical Red Isolation</a:t>
            </a:r>
            <a:br>
              <a:rPr sz="3200"/>
            </a:br>
            <a:endParaRPr b="1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5394240" y="880920"/>
          <a:ext cx="3221280" cy="135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4240" y="880920"/>
                    <a:ext cx="3221280" cy="135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8" name="" descr=""/>
          <p:cNvPicPr/>
          <p:nvPr/>
        </p:nvPicPr>
        <p:blipFill>
          <a:blip r:embed="rId3"/>
          <a:stretch/>
        </p:blipFill>
        <p:spPr>
          <a:xfrm>
            <a:off x="1222200" y="1212840"/>
            <a:ext cx="2329200" cy="104616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847800" y="2241720"/>
            <a:ext cx="3295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COTS Serial Rapid I/O Fabric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583160" y="2289240"/>
            <a:ext cx="460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Fabric with Physical Red/Black Isolation</a:t>
            </a:r>
            <a:endParaRPr b="0" lang="en-US" sz="1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11640" y="2705040"/>
            <a:ext cx="766800" cy="970200"/>
          </a:xfrm>
          <a:prstGeom prst="downArrow">
            <a:avLst>
              <a:gd name="adj1" fmla="val 50000"/>
              <a:gd name="adj2" fmla="val 31631"/>
            </a:avLst>
          </a:prstGeom>
          <a:solidFill>
            <a:srgbClr val="3366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61120" y="6586560"/>
            <a:ext cx="3782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Mercury Proprietary   For Official Use Only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H="1" rot="16200000">
            <a:off x="4212720" y="1421280"/>
            <a:ext cx="703440" cy="768600"/>
          </a:xfrm>
          <a:prstGeom prst="downArrow">
            <a:avLst>
              <a:gd name="adj1" fmla="val 50000"/>
              <a:gd name="adj2" fmla="val 27316"/>
            </a:avLst>
          </a:prstGeom>
          <a:solidFill>
            <a:srgbClr val="336699"/>
          </a:solidFill>
          <a:ln w="1260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1488960" y="3835440"/>
          <a:ext cx="6678720" cy="2843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488960" y="3835440"/>
                    <a:ext cx="6678720" cy="28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5257800" y="3168720"/>
            <a:ext cx="3886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 Black"/>
              </a:rPr>
              <a:t>High Assurance MSLS Data Labeling Applied at Crypto (slot 10) with enforcement of individual labels at each red slot (11 through 15)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1000" y="2689200"/>
            <a:ext cx="286524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66"/>
                </a:solidFill>
                <a:latin typeface="Arial Black"/>
              </a:rPr>
              <a:t>Permits:</a:t>
            </a:r>
            <a:br>
              <a:rPr sz="1200"/>
            </a:br>
            <a:r>
              <a:rPr b="1" lang="en-US" sz="1200" spc="-1" strike="noStrike">
                <a:solidFill>
                  <a:srgbClr val="003366"/>
                </a:solidFill>
                <a:latin typeface="Arial Black"/>
              </a:rPr>
              <a:t>- Red POP to operate/coexist on  the same backplane</a:t>
            </a:r>
            <a:br>
              <a:rPr sz="1200"/>
            </a:br>
            <a:r>
              <a:rPr b="1" lang="en-US" sz="1200" spc="-1" strike="noStrike">
                <a:solidFill>
                  <a:srgbClr val="003366"/>
                </a:solidFill>
                <a:latin typeface="Arial Black"/>
              </a:rPr>
              <a:t>- Groups of red processors to operate at a common level</a:t>
            </a:r>
            <a:br>
              <a:rPr sz="1200"/>
            </a:br>
            <a:r>
              <a:rPr b="1" lang="en-US" sz="1200" spc="-1" strike="noStrike">
                <a:solidFill>
                  <a:srgbClr val="003366"/>
                </a:solidFill>
                <a:latin typeface="Arial Black"/>
              </a:rPr>
              <a:t>- Dynamic reallocation of red processor levels </a:t>
            </a:r>
            <a:endParaRPr b="0" lang="en-US" sz="1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5040" y="90000"/>
            <a:ext cx="782316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1. Existence proof, reference architecture and test contributions: what we can do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58680" y="847440"/>
            <a:ext cx="79790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26160" indent="-32616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omplete the proposed revision Aeronix started for the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CA Security Supplement 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1113120" indent="-425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plore/implement methods to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modify Castellan API for SCA compliance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113120" indent="-425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evelop meaningful set of MSLS/SCA </a:t>
            </a: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Security Supplement tests</a:t>
            </a: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 using reference platform and multi-waveform suite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113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6160" indent="-32616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00"/>
                </a:solidFill>
                <a:latin typeface="Arial"/>
              </a:rPr>
              <a:t>Analyze/update SR OMG specs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for SCA security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1113120" indent="-425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Examine applicability of X.509 certificates/ signature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113120" indent="-42516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ill in OMG SWRadio Security “hole”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11131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6160" indent="-326160">
              <a:lnSpc>
                <a:spcPct val="80000"/>
              </a:lnSpc>
              <a:spcBef>
                <a:spcPts val="601"/>
              </a:spcBef>
              <a:buClr>
                <a:srgbClr val="336699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Expose and gain </a:t>
            </a: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consensus for the SWCSS requirements/design</a:t>
            </a: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 performed by the end of self-funded task – we need help with NSA part</a:t>
            </a:r>
            <a:endParaRPr b="1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1. SOW for existence proof, reference architecture and test contributions (cont)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Construct testbed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serving as </a:t>
            </a:r>
            <a:r>
              <a:rPr b="1" lang="en-US" sz="3200" spc="-1" strike="noStrike">
                <a:solidFill>
                  <a:srgbClr val="009900"/>
                </a:solidFill>
                <a:latin typeface="Arial"/>
              </a:rPr>
              <a:t>existence proof</a:t>
            </a: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 for requirements/ design and system level testing (&gt; 1 waveform basis) for JTRS, CECOM or JTeL 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Interface with legacy waveform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to exercise Security Supplement primitives, deliver commands on trusted path, store and forward red-side files, provide waveform specific DB services, etc.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9900"/>
                </a:solidFill>
                <a:latin typeface="Arial"/>
              </a:rPr>
              <a:t>Demonstrate use of X.509 certificates</a:t>
            </a: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 for deployment of legacy waveform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94800" y="132840"/>
            <a:ext cx="9423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cc"/>
                </a:solidFill>
                <a:latin typeface="Arial"/>
              </a:rPr>
              <a:t>SRS Table of Contents</a:t>
            </a:r>
            <a:endParaRPr b="1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876240"/>
            <a:ext cx="3657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Table of Contents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1.</a:t>
            </a: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INTRODUCTION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1.1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Purpose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1.2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Scope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1.3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Definitions, Acronyms, and Abbreviations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1.4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References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1.4.1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Government Documents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1.4.2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Aeronix Documents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1.4.3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Program Documents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1.5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Overview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2.</a:t>
            </a: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OVERALL DESCRIPTION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2.1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Product Perspective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2.1.1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System Interfaces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2.1.2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User Interfaces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2.1.3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Hardware Interfaces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2.1.4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Software Interfaces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2.1.5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Communication Interfaces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2.1.6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Memory Constraints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2.1.7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Operations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2.1.8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Site Adaption Requirements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2.2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Product Function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2.3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User Characteristics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2.4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Constraints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2.5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Assumptions and Dependencies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2.6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Apportioning of Requirements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</a:t>
            </a:r>
            <a:r>
              <a:rPr b="0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REQUIREMENTS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System Features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1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Operating System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2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Built In Test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3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Cryptographic Control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4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Key Fill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5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Key Storage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6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Key Update / Key Rollover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7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Audit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8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Zeroize</a:t>
            </a:r>
            <a:endParaRPr b="1" lang="en-US" sz="1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075280" y="876240"/>
            <a:ext cx="36576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Table of Contents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3.1.9.</a:t>
            </a:r>
            <a:r>
              <a:rPr b="1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	</a:t>
            </a:r>
            <a:r>
              <a:rPr b="1" lang="en-US" sz="1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Real Time Clock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10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Joseki Initialization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11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Mandatory Access Controls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12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Discretionary Access Controls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13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Policy Databases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14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Status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15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Classified Section (To be removed)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16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Crypto Ignition Key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17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Software Managemen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18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Classified Section (To be removed)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19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Firefly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20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Multiple Single Levels of Security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21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Alarm Processing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22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Shutdown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23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Tamper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24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Alarm Checks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25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OTAZ, OTAT, OTAR, OTNK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Labeling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26.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27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General Key Managemen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28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Encryption Service Interface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29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Decryption Service Interface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30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Transec Service Interface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31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Authentication Service Interface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32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Integrity Service Interface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33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Bypass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1.34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General Requirements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2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Performance Requirements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3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Logical Database Requirements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4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Design Constraints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4.1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Standards Compliance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5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Software System Attributes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5.1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Reliability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5.2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Availability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5.3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Security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5.4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Maintainability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3.5.5.</a:t>
            </a:r>
            <a:r>
              <a:rPr b="1" lang="en-US" sz="1000" spc="-1" strike="noStrike">
                <a:solidFill>
                  <a:srgbClr val="336699"/>
                </a:solidFill>
                <a:latin typeface="Arial"/>
              </a:rPr>
              <a:t>	</a:t>
            </a:r>
            <a:r>
              <a:rPr b="1" i="1" lang="en-US" sz="1000" spc="-1" strike="noStrike" u="sng">
                <a:solidFill>
                  <a:srgbClr val="336699"/>
                </a:solidFill>
                <a:uFillTx/>
                <a:latin typeface="Arial"/>
              </a:rPr>
              <a:t>Portability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  <a:p>
            <a:pPr marL="298440" indent="-29844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94800" y="132840"/>
            <a:ext cx="942372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66"/>
                </a:solidFill>
                <a:latin typeface="Arial"/>
              </a:rPr>
              <a:t>Other work based on internal research</a:t>
            </a:r>
            <a:endParaRPr b="1" lang="en-US" sz="3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74680" y="1071720"/>
            <a:ext cx="6757920" cy="35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SRS born from OMG SR SIG Use Cases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Design spec exists with component-based decomposi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Build-to spec exists with RapidIO specialization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3366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 Black"/>
              </a:rPr>
              <a:t>Need outside funds to continue work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8T18:44:57Z</dcterms:created>
  <dc:creator>mkosmicki</dc:creator>
  <dc:description/>
  <cp:keywords/>
  <dc:language>en-US</dc:language>
  <cp:lastModifiedBy>jesmith</cp:lastModifiedBy>
  <cp:lastPrinted>2001-06-14T13:56:24Z</cp:lastPrinted>
  <dcterms:modified xsi:type="dcterms:W3CDTF">2004-06-24T13:35:43Z</dcterms:modified>
  <cp:revision>67</cp:revision>
  <dc:subject>Road Show Presentation Draft</dc:subject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